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AF3-CCAF-4212-8F9D-E1B98088E3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examples of curved mirr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ved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examples of curved mirro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 Conventions for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ign Conventions for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 (p. 533-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pherical mirrors, there are three different reference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 of any two rays locates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 (p. 533-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spherical mirrors, there are three different reference ray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 of any two rays locates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drawing reference rays (p. 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drawing reference rays (p. 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y 2 rays gives the image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ny 2 rays gives the image l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side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s inside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inverted and about half the height of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the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inverted and about half the height of the obj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Mirrors (p. 5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distance is alway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always a virtual im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length is negativ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Mirrors (p. 53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distance is always nega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always a virtual imag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is negative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 for 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tual, upright image is formed behind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always less tha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 for 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rtual, upright image is formed behi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always less tha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the referenc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ing the reference r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Imag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s do not intersect in front of the mirror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Image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ays do not intersect in front of the mirror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 conventions for mirrors (p. 5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 conventions for mirrors (p. 53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 540 #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 540 #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ing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you need to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s you need to k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of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of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 for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 for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is represented as a shell of a 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is represented as a shell of a 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cave Mirror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Concave Mirror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rror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mirror equation,  you must use the correct sig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rror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se the mirror equation,  you must use the correct sig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9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.3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 = .9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 = .3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=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ification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Magnification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EB8-BB26-4AFE-A739-ED78F306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CDA-40FF-442B-BB4E-9C11013B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357-0BEC-4964-91FE-B3E7B79C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DD7-9063-4D04-98D2-85144542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64A-0B2D-418B-AD67-E554C310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2C8-BF35-4644-860E-FAB6B404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11B-C3D2-49BF-9AA7-2F93D9F2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CA5-4B6C-4FF1-9E93-E7A2BD6F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92A-4501-4CEB-91D2-989B035C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FA4-14F5-465A-8755-38EAB94E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096-CFF4-48A2-9EB8-AC56E66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0D6-6191-447D-8F34-88AE828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4647-364A-4771-B389-60A515E6EFD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C8CA-6015-4723-BB49-B23F9A8600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ved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some examples of curved mirr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C:\Users\PIA\AppData\Local\Microsoft\Windows\Temporary Internet Files\Content.IE5\L2CCEJ1W\MPj03998530000[1].jpg"/>
          <p:cNvPicPr/>
          <p:nvPr/>
        </p:nvPicPr>
        <p:blipFill>
          <a:blip r:embed="rId1"/>
          <a:stretch/>
        </p:blipFill>
        <p:spPr>
          <a:xfrm>
            <a:off x="0" y="414972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1207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78136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gn Conventions for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600200"/>
          <a:ext cx="8305920" cy="43894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entation of image with respect to o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gn of 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-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d the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209680" y="1905120"/>
                <a:ext cx="4419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6"/>
          <p:cNvSpPr/>
          <p:nvPr/>
        </p:nvSpPr>
        <p:spPr>
          <a:xfrm>
            <a:off x="685800" y="3352680"/>
            <a:ext cx="79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gnification is negative, therefore the image is real and inver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w to draw a ray diagram (p. 533-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spherical mirrors, there are three different reference ray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section of any two rays locates the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ules for drawing reference rays (p. 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838080"/>
                <a:gridCol w="464832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object to mi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mirror to image after refl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Through center of curvature (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Back along itself through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draw a ray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743200" y="2819520"/>
            <a:ext cx="4267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2819160" y="2819520"/>
            <a:ext cx="4190760" cy="3429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964680" y="243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2743200" y="2819520"/>
            <a:ext cx="4495680" cy="19047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 flipH="1">
            <a:off x="2971440" y="4724280"/>
            <a:ext cx="426708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421880" y="3276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2590920" y="28195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80880" y="1676520"/>
            <a:ext cx="6934320" cy="4876560"/>
            <a:chOff x="380880" y="1676520"/>
            <a:chExt cx="6934320" cy="4876560"/>
          </a:xfrm>
        </p:grpSpPr>
        <p:sp>
          <p:nvSpPr>
            <p:cNvPr id="128" name="Moon 3"/>
            <p:cNvSpPr/>
            <p:nvPr/>
          </p:nvSpPr>
          <p:spPr>
            <a:xfrm rot="10800000">
              <a:off x="5943600" y="167652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0"/>
            <p:cNvSpPr/>
            <p:nvPr/>
          </p:nvSpPr>
          <p:spPr>
            <a:xfrm>
              <a:off x="380880" y="403848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7"/>
            <p:cNvSpPr/>
            <p:nvPr/>
          </p:nvSpPr>
          <p:spPr>
            <a:xfrm>
              <a:off x="548640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5472000" y="4151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29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3872160" y="4075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33"/>
          <p:cNvGrpSpPr/>
          <p:nvPr/>
        </p:nvGrpSpPr>
        <p:grpSpPr>
          <a:xfrm>
            <a:off x="2743200" y="2819520"/>
            <a:ext cx="3733920" cy="3581280"/>
            <a:chOff x="2743200" y="2819520"/>
            <a:chExt cx="3733920" cy="3581280"/>
          </a:xfrm>
        </p:grpSpPr>
        <p:sp>
          <p:nvSpPr>
            <p:cNvPr id="135" name="Line 24"/>
            <p:cNvSpPr/>
            <p:nvPr/>
          </p:nvSpPr>
          <p:spPr>
            <a:xfrm>
              <a:off x="2743200" y="2819520"/>
              <a:ext cx="3733920" cy="3581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5625000" y="5370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y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AutoShape 34"/>
          <p:cNvSpPr/>
          <p:nvPr/>
        </p:nvSpPr>
        <p:spPr>
          <a:xfrm>
            <a:off x="4648320" y="4038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0" y="5105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nter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f any 2 rays gives the image 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 inside the focal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Moon 3"/>
          <p:cNvSpPr/>
          <p:nvPr/>
        </p:nvSpPr>
        <p:spPr>
          <a:xfrm rot="10800000">
            <a:off x="4572000" y="1599840"/>
            <a:ext cx="1371600" cy="487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388" y="211"/>
                  <a:pt x="1175" y="5080"/>
                  <a:pt x="1175" y="10800"/>
                </a:cubicBezTo>
                <a:cubicBezTo>
                  <a:pt x="1175" y="16520"/>
                  <a:pt x="11388" y="2138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aight Connector 10"/>
          <p:cNvSpPr/>
          <p:nvPr/>
        </p:nvSpPr>
        <p:spPr>
          <a:xfrm>
            <a:off x="838080" y="3962520"/>
            <a:ext cx="502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114800" y="38862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100400" y="4075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981080" y="38862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830600" y="41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4572000" y="297180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867280" y="3962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724280" y="2971800"/>
            <a:ext cx="10670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1676520" y="2971800"/>
            <a:ext cx="4114800" cy="2514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4724280" y="1904760"/>
            <a:ext cx="533520" cy="106668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1143000" y="1905120"/>
            <a:ext cx="4038480" cy="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191120" y="2971800"/>
            <a:ext cx="533160" cy="99072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257800" y="1905120"/>
            <a:ext cx="3276720" cy="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5791320" y="1294920"/>
            <a:ext cx="3124080" cy="1676520"/>
          </a:xfrm>
          <a:prstGeom prst="line">
            <a:avLst/>
          </a:prstGeom>
          <a:ln w="3816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4648320" y="2514600"/>
            <a:ext cx="99036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V="1">
            <a:off x="1905120" y="2971440"/>
            <a:ext cx="274320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5638680" y="1447560"/>
            <a:ext cx="350532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5"/>
          <p:cNvSpPr/>
          <p:nvPr/>
        </p:nvSpPr>
        <p:spPr>
          <a:xfrm>
            <a:off x="7467480" y="1905120"/>
            <a:ext cx="609840" cy="2057400"/>
          </a:xfrm>
          <a:prstGeom prst="upArrow">
            <a:avLst>
              <a:gd name="adj1" fmla="val 50000"/>
              <a:gd name="adj2" fmla="val 84342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 the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143000" y="1523880"/>
            <a:ext cx="6934320" cy="4876560"/>
            <a:chOff x="1143000" y="1523880"/>
            <a:chExt cx="6934320" cy="4876560"/>
          </a:xfrm>
        </p:grpSpPr>
        <p:sp>
          <p:nvSpPr>
            <p:cNvPr id="166" name="Moon 3"/>
            <p:cNvSpPr/>
            <p:nvPr/>
          </p:nvSpPr>
          <p:spPr>
            <a:xfrm rot="10800000">
              <a:off x="6705720" y="152388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>
              <a:off x="1143000" y="388584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624852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6"/>
            <p:cNvSpPr/>
            <p:nvPr/>
          </p:nvSpPr>
          <p:spPr>
            <a:xfrm>
              <a:off x="6234120" y="3998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"/>
            <p:cNvSpPr/>
            <p:nvPr/>
          </p:nvSpPr>
          <p:spPr>
            <a:xfrm>
              <a:off x="472464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8"/>
            <p:cNvSpPr/>
            <p:nvPr/>
          </p:nvSpPr>
          <p:spPr>
            <a:xfrm>
              <a:off x="4634280" y="392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AutoShape 19"/>
          <p:cNvSpPr/>
          <p:nvPr/>
        </p:nvSpPr>
        <p:spPr>
          <a:xfrm>
            <a:off x="1828800" y="23623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981080" y="2362320"/>
            <a:ext cx="5715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H="1">
            <a:off x="4038480" y="2362320"/>
            <a:ext cx="3657600" cy="4038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1981080" y="2362320"/>
            <a:ext cx="6019920" cy="21333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 flipH="1">
            <a:off x="3962520" y="4495680"/>
            <a:ext cx="396216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1981080" y="2362320"/>
            <a:ext cx="5791320" cy="320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715000" y="3886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304920" y="54100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mage is inverted and about half the height of the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pherical mirror has the shape of part of a sphere’s surf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ave mirrors are used whenever a magnified image of an object is need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vex mirrors take objects in a large field of view and produce a small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5" descr="MPj04445570000[1]"/>
          <p:cNvPicPr/>
          <p:nvPr/>
        </p:nvPicPr>
        <p:blipFill>
          <a:blip r:embed="rId1"/>
          <a:stretch/>
        </p:blipFill>
        <p:spPr>
          <a:xfrm>
            <a:off x="3048120" y="3886200"/>
            <a:ext cx="3127320" cy="2386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Mirrors (p. 537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distance is always negativ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is always a virtual imag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length is negative 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 for 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point and center of curvature are behind the mirror’s surfa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virtual, upright image is formed behind the mirr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magnification is always less than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5638680" y="4419720"/>
            <a:ext cx="152640" cy="533160"/>
          </a:xfrm>
          <a:prstGeom prst="upArrow">
            <a:avLst>
              <a:gd name="adj1" fmla="val 50000"/>
              <a:gd name="adj2" fmla="val 87323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5"/>
          <p:cNvGrpSpPr/>
          <p:nvPr/>
        </p:nvGrpSpPr>
        <p:grpSpPr>
          <a:xfrm>
            <a:off x="1828800" y="3429000"/>
            <a:ext cx="5410080" cy="3048120"/>
            <a:chOff x="1828800" y="3429000"/>
            <a:chExt cx="5410080" cy="3048120"/>
          </a:xfrm>
        </p:grpSpPr>
        <p:grpSp>
          <p:nvGrpSpPr>
            <p:cNvPr id="192" name="Group 16"/>
            <p:cNvGrpSpPr/>
            <p:nvPr/>
          </p:nvGrpSpPr>
          <p:grpSpPr>
            <a:xfrm>
              <a:off x="1828800" y="3429000"/>
              <a:ext cx="5410080" cy="3048120"/>
              <a:chOff x="1828800" y="3429000"/>
              <a:chExt cx="5410080" cy="3048120"/>
            </a:xfrm>
          </p:grpSpPr>
          <p:grpSp>
            <p:nvGrpSpPr>
              <p:cNvPr id="193" name="Group 17"/>
              <p:cNvGrpSpPr/>
              <p:nvPr/>
            </p:nvGrpSpPr>
            <p:grpSpPr>
              <a:xfrm>
                <a:off x="1828800" y="3429000"/>
                <a:ext cx="5410080" cy="3048120"/>
                <a:chOff x="1828800" y="3429000"/>
                <a:chExt cx="5410080" cy="3048120"/>
              </a:xfrm>
            </p:grpSpPr>
            <p:sp>
              <p:nvSpPr>
                <p:cNvPr id="194" name="Line 18"/>
                <p:cNvSpPr/>
                <p:nvPr/>
              </p:nvSpPr>
              <p:spPr>
                <a:xfrm>
                  <a:off x="1828800" y="495324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9"/>
                <p:cNvSpPr/>
                <p:nvPr/>
              </p:nvSpPr>
              <p:spPr>
                <a:xfrm>
                  <a:off x="5181480" y="342900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0"/>
                <p:cNvSpPr/>
                <p:nvPr/>
              </p:nvSpPr>
              <p:spPr>
                <a:xfrm>
                  <a:off x="5943240" y="487692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1"/>
                <p:cNvSpPr/>
                <p:nvPr/>
              </p:nvSpPr>
              <p:spPr>
                <a:xfrm>
                  <a:off x="6705360" y="487692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AutoShape 22"/>
              <p:cNvSpPr/>
              <p:nvPr/>
            </p:nvSpPr>
            <p:spPr>
              <a:xfrm>
                <a:off x="2819520" y="373392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23"/>
            <p:cNvSpPr/>
            <p:nvPr/>
          </p:nvSpPr>
          <p:spPr>
            <a:xfrm>
              <a:off x="5852520" y="50655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6629400" y="5105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ing the reference 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1828800" y="3809880"/>
            <a:ext cx="5410080" cy="3048120"/>
            <a:chOff x="1828800" y="3809880"/>
            <a:chExt cx="5410080" cy="3048120"/>
          </a:xfrm>
        </p:grpSpPr>
        <p:sp>
          <p:nvSpPr>
            <p:cNvPr id="205" name="Text Box 8"/>
            <p:cNvSpPr/>
            <p:nvPr/>
          </p:nvSpPr>
          <p:spPr>
            <a:xfrm>
              <a:off x="586836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6631200" y="5486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Group 13"/>
            <p:cNvGrpSpPr/>
            <p:nvPr/>
          </p:nvGrpSpPr>
          <p:grpSpPr>
            <a:xfrm>
              <a:off x="1828800" y="3809880"/>
              <a:ext cx="5410080" cy="3048120"/>
              <a:chOff x="1828800" y="3809880"/>
              <a:chExt cx="5410080" cy="3048120"/>
            </a:xfrm>
          </p:grpSpPr>
          <p:grpSp>
            <p:nvGrpSpPr>
              <p:cNvPr id="208" name="Group 10"/>
              <p:cNvGrpSpPr/>
              <p:nvPr/>
            </p:nvGrpSpPr>
            <p:grpSpPr>
              <a:xfrm>
                <a:off x="1828800" y="3809880"/>
                <a:ext cx="5410080" cy="3048120"/>
                <a:chOff x="1828800" y="3809880"/>
                <a:chExt cx="5410080" cy="3048120"/>
              </a:xfrm>
            </p:grpSpPr>
            <p:sp>
              <p:nvSpPr>
                <p:cNvPr id="209" name="Line 4"/>
                <p:cNvSpPr/>
                <p:nvPr/>
              </p:nvSpPr>
              <p:spPr>
                <a:xfrm>
                  <a:off x="1828800" y="533412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5"/>
                <p:cNvSpPr/>
                <p:nvPr/>
              </p:nvSpPr>
              <p:spPr>
                <a:xfrm>
                  <a:off x="5181480" y="380988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Oval 6"/>
                <p:cNvSpPr/>
                <p:nvPr/>
              </p:nvSpPr>
              <p:spPr>
                <a:xfrm>
                  <a:off x="5943240" y="525780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Oval 7"/>
                <p:cNvSpPr/>
                <p:nvPr/>
              </p:nvSpPr>
              <p:spPr>
                <a:xfrm>
                  <a:off x="6705360" y="525780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AutoShape 12"/>
              <p:cNvSpPr/>
              <p:nvPr/>
            </p:nvSpPr>
            <p:spPr>
              <a:xfrm>
                <a:off x="2819520" y="411480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Line 14"/>
          <p:cNvSpPr/>
          <p:nvPr/>
        </p:nvSpPr>
        <p:spPr>
          <a:xfrm>
            <a:off x="2895480" y="4114800"/>
            <a:ext cx="2514600" cy="0"/>
          </a:xfrm>
          <a:prstGeom prst="line">
            <a:avLst/>
          </a:prstGeom>
          <a:ln cap="rnd" w="507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18"/>
          <p:cNvGrpSpPr/>
          <p:nvPr/>
        </p:nvGrpSpPr>
        <p:grpSpPr>
          <a:xfrm>
            <a:off x="4876560" y="3200400"/>
            <a:ext cx="1143360" cy="2133360"/>
            <a:chOff x="4876560" y="3200400"/>
            <a:chExt cx="1143360" cy="2133360"/>
          </a:xfrm>
        </p:grpSpPr>
        <p:sp>
          <p:nvSpPr>
            <p:cNvPr id="216" name="Line 16"/>
            <p:cNvSpPr/>
            <p:nvPr/>
          </p:nvSpPr>
          <p:spPr>
            <a:xfrm flipH="1" flipV="1">
              <a:off x="5410080" y="4114440"/>
              <a:ext cx="609840" cy="1219320"/>
            </a:xfrm>
            <a:prstGeom prst="line">
              <a:avLst/>
            </a:prstGeom>
            <a:ln w="63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H="1" flipV="1">
              <a:off x="4876560" y="3200400"/>
              <a:ext cx="533160" cy="9144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5105520" y="4952880"/>
            <a:ext cx="1218960" cy="38124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269240" y="3733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2286000" y="4114800"/>
            <a:ext cx="281952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105520" y="380988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172200" y="52578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7238880" y="5257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2209680" y="411480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286000" y="411480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4582800" y="3345840"/>
            <a:ext cx="1676160" cy="1982160"/>
            <a:chOff x="4582800" y="3345840"/>
            <a:chExt cx="1676160" cy="1982160"/>
          </a:xfrm>
        </p:grpSpPr>
        <p:sp>
          <p:nvSpPr>
            <p:cNvPr id="231" name="Line 13"/>
            <p:cNvSpPr/>
            <p:nvPr/>
          </p:nvSpPr>
          <p:spPr>
            <a:xfrm flipH="1" flipV="1">
              <a:off x="5346000" y="418536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 flipV="1">
              <a:off x="4582800" y="334584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18"/>
          <p:cNvSpPr/>
          <p:nvPr/>
        </p:nvSpPr>
        <p:spPr>
          <a:xfrm>
            <a:off x="6096960" y="5486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088400" y="54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 flipH="1">
            <a:off x="2666880" y="4952880"/>
            <a:ext cx="2438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491640" y="4608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Line 26"/>
          <p:cNvSpPr/>
          <p:nvPr/>
        </p:nvSpPr>
        <p:spPr>
          <a:xfrm>
            <a:off x="5029200" y="434340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876920" y="4506840"/>
            <a:ext cx="1218960" cy="381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040640" y="3287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2057400" y="3668760"/>
            <a:ext cx="2819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523880" y="488808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876920" y="336384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5943600" y="481176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7238880" y="48006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981080" y="366876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2057400" y="366876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4354200" y="2899800"/>
            <a:ext cx="1675800" cy="1981440"/>
            <a:chOff x="4354200" y="2899800"/>
            <a:chExt cx="1675800" cy="1981440"/>
          </a:xfrm>
        </p:grpSpPr>
        <p:sp>
          <p:nvSpPr>
            <p:cNvPr id="252" name="Line 15"/>
            <p:cNvSpPr/>
            <p:nvPr/>
          </p:nvSpPr>
          <p:spPr>
            <a:xfrm flipH="1" flipV="1">
              <a:off x="5117400" y="3738960"/>
              <a:ext cx="912600" cy="114228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 flipH="1" flipV="1">
              <a:off x="4354200" y="289980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 Box 17"/>
          <p:cNvSpPr/>
          <p:nvPr/>
        </p:nvSpPr>
        <p:spPr>
          <a:xfrm>
            <a:off x="5868360" y="5040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708840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H="1">
            <a:off x="2438280" y="450684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4876920" y="450684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263040" y="4162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057400" y="3657600"/>
            <a:ext cx="289548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 rot="712800">
            <a:off x="3414960" y="36939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Image 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4724280" y="426708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4572000" y="443088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3736080" y="3211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1752480" y="3592440"/>
            <a:ext cx="281952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1219320" y="4811760"/>
            <a:ext cx="624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4572000" y="3287880"/>
            <a:ext cx="53352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29"/>
          <p:cNvSpPr/>
          <p:nvPr/>
        </p:nvSpPr>
        <p:spPr>
          <a:xfrm>
            <a:off x="5638680" y="473544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30"/>
          <p:cNvSpPr/>
          <p:nvPr/>
        </p:nvSpPr>
        <p:spPr>
          <a:xfrm>
            <a:off x="6934320" y="47242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>
            <a:off x="1676520" y="3592440"/>
            <a:ext cx="152280" cy="1219320"/>
          </a:xfrm>
          <a:prstGeom prst="upArrow">
            <a:avLst>
              <a:gd name="adj1" fmla="val 50000"/>
              <a:gd name="adj2" fmla="val 20017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1752480" y="359244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33"/>
          <p:cNvGrpSpPr/>
          <p:nvPr/>
        </p:nvGrpSpPr>
        <p:grpSpPr>
          <a:xfrm>
            <a:off x="4049280" y="2823480"/>
            <a:ext cx="1676160" cy="1982160"/>
            <a:chOff x="4049280" y="2823480"/>
            <a:chExt cx="1676160" cy="1982160"/>
          </a:xfrm>
        </p:grpSpPr>
        <p:sp>
          <p:nvSpPr>
            <p:cNvPr id="275" name="Line 34"/>
            <p:cNvSpPr/>
            <p:nvPr/>
          </p:nvSpPr>
          <p:spPr>
            <a:xfrm flipH="1" flipV="1">
              <a:off x="4812480" y="366300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5"/>
            <p:cNvSpPr/>
            <p:nvPr/>
          </p:nvSpPr>
          <p:spPr>
            <a:xfrm flipH="1" flipV="1">
              <a:off x="4049280" y="282348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Text Box 36"/>
          <p:cNvSpPr/>
          <p:nvPr/>
        </p:nvSpPr>
        <p:spPr>
          <a:xfrm>
            <a:off x="5563800" y="496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678348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2133360" y="44308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4572000" y="4430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2958120" y="4086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1752480" y="3581280"/>
            <a:ext cx="289584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 rot="712800">
            <a:off x="3110040" y="3618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4"/>
          <p:cNvSpPr/>
          <p:nvPr/>
        </p:nvSpPr>
        <p:spPr>
          <a:xfrm>
            <a:off x="5334120" y="4419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457200" y="5105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ays do not intersect in front of the mirror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ижний колонтитул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gn conventions for mirrors (p. 53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487760" cy="579132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 540 #6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ing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Content Placeholder 3"/>
              <p:cNvSpPr txBox="1"/>
              <p:nvPr/>
            </p:nvSpPr>
            <p:spPr>
              <a:xfrm>
                <a:off x="5638680" y="1676520"/>
                <a:ext cx="1600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"/>
              <p:cNvSpPr txBox="1"/>
              <p:nvPr/>
            </p:nvSpPr>
            <p:spPr>
              <a:xfrm>
                <a:off x="4495680" y="3200400"/>
                <a:ext cx="4273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57200" y="4952880"/>
                <a:ext cx="8077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The image is 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 cm behind the mirr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rms you need to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00200"/>
          <a:ext cx="8381880" cy="5011560"/>
        </p:xfrm>
        <a:graphic>
          <a:graphicData uri="http://schemas.openxmlformats.org/drawingml/2006/table">
            <a:tbl>
              <a:tblPr/>
              <a:tblGrid>
                <a:gridCol w="2793960"/>
                <a:gridCol w="419076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bol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enter of the spherical shell of which the mirror is a small p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from the mirror’s surface to the center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;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’,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object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image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 is equal to half the 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gnification of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magnification is positive, the image is upright and virtu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2971800" y="1905120"/>
                <a:ext cx="3276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 for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1031760" y="3962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>
            <a:off x="5334120" y="2209680"/>
            <a:ext cx="78084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7059600" y="387504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8921880" y="388620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7011360" y="4191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8704440" y="411480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2590920" y="2438280"/>
            <a:ext cx="228600" cy="1524240"/>
          </a:xfrm>
          <a:prstGeom prst="upArrow">
            <a:avLst>
              <a:gd name="adj1" fmla="val 50000"/>
              <a:gd name="adj2" fmla="val 166693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743200" y="2438280"/>
            <a:ext cx="297180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 flipH="1" flipV="1">
            <a:off x="4724280" y="1294920"/>
            <a:ext cx="914400" cy="1143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 flipH="1" flipV="1">
            <a:off x="5638680" y="2438280"/>
            <a:ext cx="1524240" cy="152424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2743200" y="2438280"/>
            <a:ext cx="2743200" cy="609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 flipH="1" flipV="1">
            <a:off x="5562720" y="3048120"/>
            <a:ext cx="3581280" cy="914400"/>
          </a:xfrm>
          <a:prstGeom prst="line">
            <a:avLst/>
          </a:prstGeom>
          <a:ln w="93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903600" y="6132600"/>
            <a:ext cx="79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ember that you only need to draw two of the three rays to find the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2743200" y="2514600"/>
            <a:ext cx="266688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 flipH="1" flipV="1">
            <a:off x="5333760" y="3276360"/>
            <a:ext cx="1904760" cy="685800"/>
          </a:xfrm>
          <a:prstGeom prst="line">
            <a:avLst/>
          </a:prstGeom>
          <a:ln w="9360">
            <a:solidFill>
              <a:srgbClr val="ff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3"/>
          <p:cNvSpPr/>
          <p:nvPr/>
        </p:nvSpPr>
        <p:spPr>
          <a:xfrm flipH="1">
            <a:off x="2971440" y="3276720"/>
            <a:ext cx="24382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5334120" y="3276720"/>
            <a:ext cx="198108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6"/>
          <p:cNvSpPr/>
          <p:nvPr/>
        </p:nvSpPr>
        <p:spPr>
          <a:xfrm>
            <a:off x="6400800" y="32767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Group 37"/>
          <p:cNvGrpSpPr/>
          <p:nvPr/>
        </p:nvGrpSpPr>
        <p:grpSpPr>
          <a:xfrm>
            <a:off x="1069920" y="1299960"/>
            <a:ext cx="5542200" cy="4110120"/>
            <a:chOff x="1069920" y="1299960"/>
            <a:chExt cx="5542200" cy="4110120"/>
          </a:xfrm>
        </p:grpSpPr>
        <p:sp>
          <p:nvSpPr>
            <p:cNvPr id="62" name="Text Box 18"/>
            <p:cNvSpPr/>
            <p:nvPr/>
          </p:nvSpPr>
          <p:spPr>
            <a:xfrm>
              <a:off x="2364120" y="21337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2646360" y="2417760"/>
              <a:ext cx="374760" cy="96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10"/>
            <p:cNvSpPr/>
            <p:nvPr/>
          </p:nvSpPr>
          <p:spPr>
            <a:xfrm>
              <a:off x="2419200" y="3387600"/>
              <a:ext cx="37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1069920" y="36115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ncipal Ax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 flipV="1">
              <a:off x="2495520" y="3387600"/>
              <a:ext cx="120348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24"/>
            <p:cNvSpPr/>
            <p:nvPr/>
          </p:nvSpPr>
          <p:spPr>
            <a:xfrm rot="10560600">
              <a:off x="4146480" y="1375920"/>
              <a:ext cx="2330640" cy="39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25" y="475"/>
                    <a:pt x="2650" y="5080"/>
                    <a:pt x="2650" y="10800"/>
                  </a:cubicBezTo>
                  <a:cubicBezTo>
                    <a:pt x="2650" y="16520"/>
                    <a:pt x="12125" y="2112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4449600" y="3313080"/>
              <a:ext cx="150840" cy="14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8"/>
            <p:cNvSpPr/>
            <p:nvPr/>
          </p:nvSpPr>
          <p:spPr>
            <a:xfrm>
              <a:off x="4399200" y="3657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35"/>
            <p:cNvSpPr/>
            <p:nvPr/>
          </p:nvSpPr>
          <p:spPr>
            <a:xfrm>
              <a:off x="5106240" y="36576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6"/>
            <p:cNvSpPr/>
            <p:nvPr/>
          </p:nvSpPr>
          <p:spPr>
            <a:xfrm>
              <a:off x="5334120" y="3314880"/>
              <a:ext cx="152280" cy="1141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Oval 23"/>
          <p:cNvSpPr/>
          <p:nvPr/>
        </p:nvSpPr>
        <p:spPr>
          <a:xfrm>
            <a:off x="2362320" y="1371600"/>
            <a:ext cx="4114800" cy="4114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304920" y="5904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pherical mirror is represented as a shell of a 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ave Mirror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45403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rror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4724280" y="1143000"/>
                <a:ext cx="3810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3048120" y="4343400"/>
                <a:ext cx="5841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cal lengt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Box 5"/>
          <p:cNvSpPr/>
          <p:nvPr/>
        </p:nvSpPr>
        <p:spPr>
          <a:xfrm>
            <a:off x="228600" y="1103400"/>
            <a:ext cx="2438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To use the mirror equation,  you must use the correct sig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positive if they form on the front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negative if they form on the back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MCj04114440000[1]"/>
          <p:cNvPicPr/>
          <p:nvPr/>
        </p:nvPicPr>
        <p:blipFill>
          <a:blip r:embed="rId1"/>
          <a:stretch/>
        </p:blipFill>
        <p:spPr>
          <a:xfrm>
            <a:off x="8413920" y="0"/>
            <a:ext cx="73008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e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Content Placeholder 3"/>
              <p:cNvSpPr txBox="1"/>
              <p:nvPr/>
            </p:nvSpPr>
            <p:spPr>
              <a:xfrm>
                <a:off x="1219320" y="1600200"/>
                <a:ext cx="2286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= .9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 = .3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=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371600" y="3657600"/>
                <a:ext cx="5959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2362320" y="5410080"/>
                <a:ext cx="4647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gnification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371600" y="4114800"/>
                <a:ext cx="7010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agnificat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heigh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2743200" y="1600200"/>
                <a:ext cx="40384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8" name="Picture 8" descr="MPj03989470000[1]"/>
          <p:cNvPicPr/>
          <p:nvPr/>
        </p:nvPicPr>
        <p:blipFill>
          <a:blip r:embed="rId1"/>
          <a:stretch/>
        </p:blipFill>
        <p:spPr>
          <a:xfrm>
            <a:off x="0" y="0"/>
            <a:ext cx="1820880" cy="1041480"/>
          </a:xfrm>
          <a:prstGeom prst="rect">
            <a:avLst/>
          </a:prstGeom>
          <a:ln w="0">
            <a:noFill/>
          </a:ln>
        </p:spPr>
      </p:pic>
      <p:sp>
        <p:nvSpPr>
          <p:cNvPr id="9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8:23:41Z</dcterms:created>
  <dc:creator>PIA</dc:creator>
  <dc:description/>
  <dc:language>en-US</dc:language>
  <cp:lastModifiedBy>LEGION</cp:lastModifiedBy>
  <dcterms:modified xsi:type="dcterms:W3CDTF">2018-03-12T09:20:51Z</dcterms:modified>
  <cp:revision>27</cp:revision>
  <dc:subject/>
  <dc:title>14-3: Curved Mirrors</dc:title>
</cp:coreProperties>
</file>